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80C7-D86F-4438-8EDE-E326FAA2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06DF-70A8-4052-AEA4-65B82838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5ADD-8BDC-4F7E-8C15-C7843C13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86E-2294-42E7-8A48-DB53AEA9D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CD31-0AB8-49C8-999A-A6B9F543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3391-00CA-4E20-A7EC-5394449B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8ECE-E717-4D39-A6D6-E9513A89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2C67-75FD-49AF-8448-1582E904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6B05-CBC3-408F-905C-43C7C6AF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E0FE-44C1-46A7-AEC9-FD021B70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E056-6CA9-4431-8669-C7CD8AF3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D117-FFD2-40CD-9DF2-4A3D393D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13AC-675F-4F82-ADEF-C6B9FD3E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1702-0408-4322-A23C-713000AF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7151-DDF4-4C67-87CA-E63B0078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F7D8-BC05-46F3-B088-FBB7CC5B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9524-5380-4222-94B0-8FC8686C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3180C-96A2-41C4-B5E4-65613818C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278E7-C8CE-494C-8AC8-DAACC49C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62F4B-712B-4E2E-A699-CA4F5C7B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8DB3A-8B9A-46DA-93B2-57FB1CC0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B86F5-6945-4CEA-99A0-023FA7AE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ACFF-91B5-461F-A674-04D65A08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C5640-9D4E-476D-B3F8-07E4C5BA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76AD6-E188-45EA-A09E-8393E57B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354D-633A-4B6A-BCB0-6FBF2754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BF767-B95C-42F7-BE6B-D67ED1C5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D668B-7742-4737-B7E5-7277E6FF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201B1-A391-451F-A24D-6153078A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8FD1-40BD-4623-9865-AAEDE861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06AD0-8B8A-4EE3-8C33-E3F978A8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8AE33-311B-4A66-A6AB-3233EE7A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CD16D-03B5-4954-A2B5-E4DA68A3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69AE-536D-490F-95D7-36D73883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7C874-B4AE-44EC-8A4B-6D383B56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B886E-66EE-4DDF-8E40-4084CD0E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3CDB3-C42D-4981-9DB6-342C0BFF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31568-9473-4860-8617-900845B4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F39C-847D-4CD6-B82B-F9E3DE56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B19DC-B61C-41FB-B017-9F04FCAE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33877-5B4A-479E-A139-B8D03974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147FF-9D43-47F3-B1A6-C748971C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B6AD7-C9AA-40CE-9229-D7B64F9F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D47D8-8609-4E77-8898-ED099B8A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5A5-B3BF-44FC-B875-C34868D3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1F224-8C1A-4779-8C23-6EB2D078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C2262-25B9-4E77-AC15-680B1CDD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E7E18-C88F-4AB3-9DC6-52831FA2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E2B6F-1979-40AC-BDDB-14CA6ADB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231CD-35BA-465C-94C4-9131F124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F1C77-20C1-49C8-984F-55339EB4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3D58C-3637-4DB3-B442-08105FEF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7DDFF-8E01-4ACF-ADF6-DD5FC3E3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B9575-9457-4EBE-9F27-2AC90710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FD407-48CF-4A95-9303-D9667A6D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5DA-4B59-44C4-9146-C8AD98B0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ECC76-8836-447B-8B9D-6D0D5B83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E8E44-394A-40C5-9159-AA21030B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86729-2926-48BC-9902-FEBF12B4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5DD9E-A84D-4680-88C0-8B3095F2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B7D05-FB93-42ED-B65E-A5BBEA2D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8E9BF-3542-48F0-BA4E-16871147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63042-CCD9-40FE-BE56-020A9A40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83D26-A20F-4322-BD72-8C8A323C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0568A-24D8-4122-AF5D-088042A1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CEE64-8703-4422-A83A-5E9BB95A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1982-CC1F-4E03-B1A5-EAD5715F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C5008-395D-4976-B257-B58B5C2C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C56F6-E742-4E6F-838C-CCE6FB1C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FC80D-822C-4D07-A2E1-7E56DF2B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E6D-B8DA-4601-9572-FAB69310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B2F-FF4A-429D-84B7-3990D027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9C22-7A1F-41BA-BFE3-077323EFF7B7}" type="slidenum"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8000" y="0"/>
                <a:ext cx="1821240" cy="49381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2600"/>
                <a:ext cx="9144000" cy="287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DD46-7A54-4A46-ADDE-847C74F2F6F1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2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14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9BDC-A5E9-46E4-AF13-E5837066B46F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3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555E-4364-45C0-93D9-89ACA6F565D1}" type="slidenum"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3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8426-EC84-40C3-A09E-265CE6ED631D}" type="slidenum"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3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819A-B069-463A-BDFF-EDBB005D2710}" type="slidenum"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Subtitle 2" descr=""/>
          <p:cNvPicPr/>
          <p:nvPr/>
        </p:nvPicPr>
        <p:blipFill>
          <a:blip r:embed="rId1"/>
          <a:stretch/>
        </p:blipFill>
        <p:spPr>
          <a:xfrm>
            <a:off x="1841400" y="5834160"/>
            <a:ext cx="6637320" cy="5000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4760" y="4648320"/>
            <a:ext cx="65530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INDOOR AIR QUALITY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DISTRICT IAQ TEA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057040" y="1980720"/>
            <a:ext cx="6629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Steve Dalzell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Bill Caruso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Steve Beals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Eric Greenfield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Janet Brough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Andy Mercer/Sue Goulet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Brian Connelly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Joanna Bergman/Joanne Joy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Anne Barach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a nurse that will take a strong leadership role--You know a few of them-Who can we ask? Gina McGuire/WH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WHY CARE ABOUT IAQ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sthma and allergy reduction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mproved staff and student attendanc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improved ability to learn and teac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ALL STAFF EDUCATION NEEDS 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057040" y="1904760"/>
            <a:ext cx="6629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declutter for efficient cleaning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unblock all vents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use natural light/shut light off when possible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remove unauthorized cleaners and use school approved ones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use labeled containers only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learn disinfecting procedures with approved solutions-remove bleach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don't use air fresheners or strong perfumes/colognes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  <a:p>
            <a:pPr marL="514440" indent="-51444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report issues through school dude?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SCHOOL WALK-THROUGH TEA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acility Manag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eache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retary/Paraeducator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tudents-as availabl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chool Nurs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18:57:19Z</dcterms:created>
  <dc:creator>Janet Brough</dc:creator>
  <dc:description/>
  <dc:language>en-US</dc:language>
  <cp:lastModifiedBy>Janet Brough</cp:lastModifiedBy>
  <dcterms:modified xsi:type="dcterms:W3CDTF">2010-07-22T16:16:14Z</dcterms:modified>
  <cp:revision>8</cp:revision>
  <dc:subject/>
  <dc:title>Indoor Air Quality</dc:title>
</cp:coreProperties>
</file>